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34272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ississippia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3632040"/>
            <a:ext cx="10464840" cy="397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ria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Jona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et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al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pt 8, 2008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2222640" y="1066680"/>
            <a:ext cx="883908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erritor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ississippian cultures ranged from areas between the Mississippi Valley into Alabama, Georgia, and Florid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argest city within the tribe is Cahokia, which spread across 6 square miles with a population of 20,000 people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-50760" y="0"/>
            <a:ext cx="1310652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nvironment/landscap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Mississippian tribe primarily lived in the valleys surrounding the Mississippi River. On the few plateaus in the Mississippian territories they built temples to praise the god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tribeís houses were built in orderly rows and around open plazas. The main agricultural fields lay outside the tribeís citie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689440" y="507960"/>
            <a:ext cx="6388200" cy="50799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25480" y="7988400"/>
            <a:ext cx="15750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7920" y="7110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ood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ヒラギノ角ゴ Pro W3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3695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ost common crop: Corn and maiz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omen were the cartakers of the farm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rops that were grown include corn,maize beans, squash, pumpkin, and sunflower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Becuase of fertal farm land, the were able to use intense farming techniqu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9740880" y="88920"/>
            <a:ext cx="317520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07160" y="304560"/>
            <a:ext cx="4051440" cy="166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ous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17520" y="291960"/>
            <a:ext cx="510552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atched roofs and mud plaster wall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anged around open plaza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ounds for chiefs houses, as well as for places for praying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6578640" y="2349360"/>
            <a:ext cx="6110280" cy="39751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3643200" y="6578640"/>
            <a:ext cx="943632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2996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ransport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480" y="2184480"/>
            <a:ext cx="579096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noes used for transportation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sides of canoe burned to be more water resistan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dze- a tool used to carve the cano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8978760" y="293364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6"/>
          <a:stretch/>
        </p:blipFill>
        <p:spPr>
          <a:xfrm>
            <a:off x="8077320" y="7112160"/>
            <a:ext cx="4698720" cy="2489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7"/>
          <a:stretch/>
        </p:blipFill>
        <p:spPr>
          <a:xfrm>
            <a:off x="10312560" y="1409760"/>
            <a:ext cx="2489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ahoki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ahokia is one of the largest city and tribes under the regional name of Mississippian.  The name originates from a sub-tribe of the Illini, who came from the east not reaching the area until the 1600í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